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6E88-10D4-4A18-B7A4-2F01E07F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4DA6-F584-4AEB-9FD4-408F5698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1EB3-CC14-4AF7-81D8-B542197E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B840-C18A-426D-A1B5-BD3DD94A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D5F8-908F-4268-A6EC-3FC4388B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8C5-079F-4AC6-AF34-879EBDDB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A4D9-0E45-4A1A-B9D1-2FB747BF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DE23-C090-4C88-AE6F-E09E22B2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5C30-A206-47E5-BB36-2317ADEA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506-7165-49DF-ACAD-C6E0AC07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72F9-278F-455A-88ED-18FD8366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6CD1-2806-4DC8-94B6-6DC07828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3BD7-E978-465F-AA46-F8C9754FF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in%20título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in%20título-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in%20título-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in%20título-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in%20título-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6:24:01Z</dcterms:created>
  <dc:creator>Grupo Editorial</dc:creator>
  <dc:description/>
  <dc:language>en-US</dc:language>
  <cp:lastModifiedBy>Grupo Editorial</cp:lastModifiedBy>
  <dcterms:modified xsi:type="dcterms:W3CDTF">2001-09-20T16:28:12Z</dcterms:modified>
  <cp:revision>1</cp:revision>
  <dc:subject/>
  <dc:title>Sin título de diapositiva</dc:title>
</cp:coreProperties>
</file>